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10.wmf" ContentType="image/x-wmf"/>
  <Override PartName="/ppt/media/image11.png" ContentType="image/png"/>
  <Override PartName="/ppt/media/image12.jpeg" ContentType="image/jpeg"/>
  <Override PartName="/ppt/media/image3.wmf" ContentType="image/x-wmf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23A-BFAE-4923-89BD-6BE223CB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9F4-CC83-4FCB-872A-23F99709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120-5496-4B49-B203-9B25B980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BB2-F492-4E94-B8CB-1396B82F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671-47D2-4E0C-9385-54C390EE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5DF-CFBC-4C33-B156-2BC33816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0D3-654F-4213-897C-671EDA78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0CE-3D72-41F7-9405-340E02FF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243-3257-4CBC-BC27-922CC09A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AE0-3135-4FEE-A15B-750AFC90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12E-CDD5-4EE9-AEB5-406D1A04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56F-8F0D-4C06-A781-79D5AAED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2A58-45A5-4C5E-8248-15F210C78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look a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star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lar.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08800" y="2039760"/>
            <a:ext cx="1888920" cy="186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43760" y="4519440"/>
            <a:ext cx="819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ap some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drinking some 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gul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218268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To tell a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Base word: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Synonyms: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Syllable: story.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54520" y="2076480"/>
            <a:ext cx="1797120" cy="178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97520" y="4114800"/>
            <a:ext cx="1311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with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bor.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24280" y="282888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ted and ner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ex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ea.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18160" y="3043080"/>
            <a:ext cx="18702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45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talk foolish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c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o talk si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chat.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94200" y="2684520"/>
            <a:ext cx="15177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B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: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Li.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29440" y="2030400"/>
            <a:ext cx="1390680" cy="1227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686560" y="4429080"/>
            <a:ext cx="17319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ay thank y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o say 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ra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r.a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59280" y="1981080"/>
            <a:ext cx="257652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i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ay good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Good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Ad.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 rot="365400">
            <a:off x="3733560" y="4266720"/>
            <a:ext cx="50734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8-10-30T17:23:18Z</dcterms:modified>
  <cp:revision>9</cp:revision>
  <dc:subject/>
  <dc:title>PowerPoint Presentation</dc:title>
</cp:coreProperties>
</file>